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1AD-0497-4F66-9A2C-25B3D4BA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351-1D38-4A4A-B99E-FEFABE9F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A03-3F00-41C5-B11B-DFD65531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11D-5805-4F4F-802E-393E4DAA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26C0-02F4-4B86-BC7D-B0AA90FD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F62C-C42C-4ADD-AFB4-7EBE640F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9F2F-DD33-436F-A78D-FA3472D5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C3E6-BEBF-4131-B33C-4297AB3A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E606-8926-4006-A033-4D4D7E38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ADB6-A98C-4B47-B39C-522D636A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C934-58BA-4C7C-B3F7-666D3E2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B66-C896-4C37-81D6-7DB42337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EFD6-88C5-4CDF-97A4-E896B95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C70E-CA94-4523-8214-B9A6D2DE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15CA-A887-444E-88D5-CAF17F82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59A9-2C0D-4F43-BDA7-78AB4AE1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9616-7850-4E23-A3E4-DA944A86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DC18-FBE9-4022-88DE-08670CDB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6E32-0503-4E2D-8C3B-F572B553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7C35-8BAA-4CF0-9E94-AB4DBAFB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BCA9-EE78-45AC-858C-EF197D52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3CD1-3B63-4070-912D-DA1A6FDB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AE6-4D07-4C22-BAF2-139058C1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14E3-0861-4E2F-9B7A-44AC5E5B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1B70-0919-432F-9D45-C520B63B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497C-D705-4798-84CA-6DB36606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E6FFE-DC22-4346-9033-EFEBF96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7629A-F7D0-4A03-AC42-AD820C49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DA614-935D-45FF-B5A5-1CD32EC7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6FB7C-0F5D-49FA-910A-0CA6B225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7A2A-06A6-4E1D-956D-B6C2C01B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8568-7232-4399-9D0C-294B1160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170E-D2C0-40FA-A687-6DEB8B3F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0A5-B381-4F64-A256-AC63A4F3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0C3C7-8292-42F2-B985-1092E9D8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78633-2663-4F3E-A27D-53CDD08A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03BA1-0CA2-4C92-AFE1-2A89AB09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7417-5354-4760-BF9D-22745664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1E045-D47A-44C1-B427-96FDFFED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8DEF-89E7-4557-B585-B61B3A28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81905-B139-4E83-A56D-5E45EDB9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C06E-8BD1-4975-8EBB-E1DF5E43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80DF-CA58-4C0C-B4E8-CE4C5C1A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5E4-CA88-4024-B017-D0516F6F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F75-BAA8-4616-A978-7B40411C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BB1-D7C7-48BC-8B2A-CA5C04C7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90D-B55C-41EE-AF40-A8CA43DA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9CA-D510-4CA4-91E8-B0F531E1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4BB4-BB61-4B4F-A177-96100AF8770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18B7-374C-4B89-B990-57AB416DD7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DDA3-E09A-41DA-947D-B31A6B4596C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A708-A6EF-4F9F-9BCD-033CD9C86EC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-328680" y="1023840"/>
            <a:ext cx="9472680" cy="5059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0" y="401760"/>
            <a:ext cx="9113760" cy="4524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104760" y="4554360"/>
            <a:ext cx="2782800" cy="208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397560" y="3746520"/>
            <a:ext cx="2716200" cy="2036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986200" y="45543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877000" y="480060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638760" cy="1815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24000" y="139680"/>
            <a:ext cx="8350200" cy="787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Гаджиева Аида Ирзаевна</cp:lastModifiedBy>
  <dcterms:modified xsi:type="dcterms:W3CDTF">2022-11-23T16:23:23Z</dcterms:modified>
  <cp:revision>7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